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4983-B2ED-4EFB-B118-BB3E0E16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F02A-6827-4456-83DE-C82DC74C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BC83-9D29-427A-AC23-637843D6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D438-5633-46BD-8BBB-02CC89D24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90B4-A78A-406D-91F7-7DCA55E5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37DE-C98A-4064-8C5C-075C8A75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3C04-086E-448A-BCF3-B3DA2C07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C076-2ABE-4FC2-97AC-ECDD6DD9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95AA-BA02-4FA1-88C3-5A2955EA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6A88-6C7E-4B6F-8F11-07CEC28E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A4A5-2D7F-4478-8AF4-000C58CF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09FB-1CEA-4D3D-9DB0-0CB293BD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5B74-0E08-4489-A616-DAB46DC1D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37840" y="217440"/>
            <a:ext cx="442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ural tub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57680" y="12193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44600" y="5222880"/>
            <a:ext cx="839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ral plate-&gt; neural keel-&gt; neural rod-&gt; neural tube-&gt; spinal 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eds in and anterior to posterior fash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The image “http://www.ans.iastate.edu/research/reecy/images/reecy/reecy_image5.gif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3838680" y="457200"/>
            <a:ext cx="3247920" cy="532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78800" y="3657600"/>
            <a:ext cx="15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ural c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95480" y="3352320"/>
            <a:ext cx="4572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38862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60440" y="1411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r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601992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wo fields fuse into a tube, which undergoes looping and addition of neural crest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21:56:26Z</dcterms:created>
  <dc:creator>Melissa Haendel</dc:creator>
  <dc:description/>
  <dc:language>en-US</dc:language>
  <cp:lastModifiedBy>zfin user</cp:lastModifiedBy>
  <dcterms:modified xsi:type="dcterms:W3CDTF">2008-05-19T20:50:24Z</dcterms:modified>
  <cp:revision>5</cp:revision>
  <dc:subject/>
  <dc:title>Slide 1</dc:title>
</cp:coreProperties>
</file>